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986-43F0-4923-A24C-B3C8858A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38B-3B48-4844-B7D7-167A08A8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1C3-F441-4199-B703-7B47A7AC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3838-381E-4620-B0EC-50BF3CC5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A1E9-C022-453F-90F3-AD50B90C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EF9E-C22F-4363-86E2-5D2EBBE5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464B-60DB-42BF-83AB-6761B015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DD68-9D2F-45D9-AA49-EBC838A6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5F0D-057C-4827-976C-59961A31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D69B-DC52-4709-85B6-999E3E58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B30C-2E78-4D10-B002-45F7CB4B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CE1-EA23-4F8A-9861-2EE85464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10DD-8653-4500-A88A-8139007A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8CDA-FD39-4EF1-ABC1-CA9E9CCB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F356-7AA4-4EB5-B042-EC07AA09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198B-3AA5-4C08-AB8F-1CA77AD6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3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3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286F-4515-4C44-9FA1-4FB7F197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586-907E-48F7-B308-3C8ACFFE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CD7-B7E6-4511-88CB-79D64BD8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184-A980-4D5B-B1AD-21F34EC4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485-8D1D-4665-8307-8F74A0C7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15C-6CD8-4532-ADC4-E71AF95F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E07-D163-482D-8033-45BCDF08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D98-856D-48F8-A5C8-D77A9A9D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98F6-653F-4A37-B833-92DAA9B08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96B5-AE0C-49B2-92FF-A9EA85C44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ru.wikipedia.org/wiki/1883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6920" y="2492280"/>
            <a:ext cx="547236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мет, основные методы и разделы почвовед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чвообразовательный   процесс</a:t>
            </a:r>
            <a:r>
              <a:rPr b="0" lang="ru-RU" sz="3200" spc="-1" strike="noStrike">
                <a:solidFill>
                  <a:srgbClr val="45855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940360" y="5734080"/>
            <a:ext cx="2317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кция №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4" descr="p004"/>
          <p:cNvPicPr/>
          <p:nvPr/>
        </p:nvPicPr>
        <p:blipFill>
          <a:blip r:embed="rId1"/>
          <a:stretch/>
        </p:blipFill>
        <p:spPr>
          <a:xfrm>
            <a:off x="7451640" y="2492280"/>
            <a:ext cx="1430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41832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668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естественно-историческое, природное образование, рыхлое и динамичное, сформировавшееся на земной поверхности при взаимодействии геологических пород и живых организмов в определенных климатических условиях и рельефа со временем и обладающее плодородие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акторы почвообраз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има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льеф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чвообразующие породы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ивые организм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11280" y="26028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 о ч в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2006_lov_s_flora4"/>
          <p:cNvPicPr/>
          <p:nvPr/>
        </p:nvPicPr>
        <p:blipFill>
          <a:blip r:embed="rId1"/>
          <a:stretch/>
        </p:blipFill>
        <p:spPr>
          <a:xfrm>
            <a:off x="4500720" y="4149720"/>
            <a:ext cx="1981080" cy="151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3115a"/>
          <p:cNvPicPr/>
          <p:nvPr/>
        </p:nvPicPr>
        <p:blipFill>
          <a:blip r:embed="rId2"/>
          <a:stretch/>
        </p:blipFill>
        <p:spPr>
          <a:xfrm>
            <a:off x="6156360" y="5013360"/>
            <a:ext cx="24861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биосфере Земли почва выполняет ряд функци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еспечивает условия существования жизни на земной поверхности за счет аккумуляции биофильных элементов, самовосстановления и самоочищения среды обит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гулирует развитие и взаимосвязь геологического и биологического круговоротов веществ и потоков энерг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еспечивает накопление органического вещества, главным образом в виде почвенного гумуса, являющегося хранителем живой энерг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2006_lov_s_flora2"/>
          <p:cNvPicPr/>
          <p:nvPr/>
        </p:nvPicPr>
        <p:blipFill>
          <a:blip r:embed="rId1"/>
          <a:stretch/>
        </p:blipFill>
        <p:spPr>
          <a:xfrm>
            <a:off x="900000" y="5734080"/>
            <a:ext cx="2232000" cy="93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006_lov_s_flora1"/>
          <p:cNvPicPr/>
          <p:nvPr/>
        </p:nvPicPr>
        <p:blipFill>
          <a:blip r:embed="rId2"/>
          <a:stretch/>
        </p:blipFill>
        <p:spPr>
          <a:xfrm>
            <a:off x="6732720" y="5661000"/>
            <a:ext cx="1873080" cy="1000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3115c"/>
          <p:cNvPicPr/>
          <p:nvPr/>
        </p:nvPicPr>
        <p:blipFill>
          <a:blip r:embed="rId3"/>
          <a:stretch/>
        </p:blipFill>
        <p:spPr>
          <a:xfrm>
            <a:off x="3708360" y="5661000"/>
            <a:ext cx="24861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чва представляет собой сложную саморегулирующуюся поликомпонентную многофазную систему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ЗЫ        ПОЧВ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Твердая фаз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Жидкая фа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Газовая фа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Живая фа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5" descr="p004"/>
          <p:cNvPicPr/>
          <p:nvPr/>
        </p:nvPicPr>
        <p:blipFill>
          <a:blip r:embed="rId1"/>
          <a:stretch/>
        </p:blipFill>
        <p:spPr>
          <a:xfrm>
            <a:off x="4427640" y="2205000"/>
            <a:ext cx="1712880" cy="3168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p007"/>
          <p:cNvPicPr/>
          <p:nvPr/>
        </p:nvPicPr>
        <p:blipFill>
          <a:blip r:embed="rId2"/>
          <a:stretch/>
        </p:blipFill>
        <p:spPr>
          <a:xfrm>
            <a:off x="6516720" y="3141720"/>
            <a:ext cx="1584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чвообразовательный процесс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еологическим круговоротом веществ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азываются геологические процессы превращения и перемещения массы горной породы, совершающиеся на протяжении геологических эпох. В геологическом круговороте образуется рыхлая кора выветривания в виде различных по генезису осадочных пород. В коре выветривания создаются предпосылки для поселения растительности и развития почвообразования, так как она обладает пористостью, водо- и воздухопроницаемостью и содержит некоторое количество зольных элементов питания раст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лый биологический круговоро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веществ обусловлен жизнедеятельностью живых организмов и, прежде всего зеленых растений. Характерными чертами его являютс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влечение из материнской горной породы элементов пита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тез биомассы и включение элементов питания в состав сложных, нерастворимых в воде органических соединени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зврат в формирующуюся почву этих соединений с ежегодным опадом отмирающей биомассы в виде наземного опада и корн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иболее важные слагаемые почвообразовательного процесса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превращение (трансформация) минералов горной породы, из которой образуется почва  (а в дальнейшем и самой почвы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накопление в ней органических остатков и их постепенная трансформаци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взаимодействие минеральных и органических соединени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накопление (аккумуляция) в верхней части почвы ряда биофильных элементов, и прежде всего элементов питани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передвижение продуктов  почвообразования с током влаги по вертикальной толще формирующейся почв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p011"/>
          <p:cNvPicPr/>
          <p:nvPr/>
        </p:nvPicPr>
        <p:blipFill>
          <a:blip r:embed="rId1"/>
          <a:stretch/>
        </p:blipFill>
        <p:spPr>
          <a:xfrm>
            <a:off x="7236000" y="3284640"/>
            <a:ext cx="165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тератур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055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 Почвоведение. Под ред. И.С. Кауричева. – М.: Колос, 1982. - с.5-17; 37-4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 В.Д. Муха. Агропочвоведение. – М.: КолосС, 2003. – с.5-12; 29-3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учить предмет, основные методы и разделы почвоведения, познакомиться с общей схемой почвообразовательного  процесса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просы лекц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мет, основные методы и разделы почвоведения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никновение и создание генетического почвовед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ятие о почв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ая схема почвообразовательного процесс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чвоведение 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05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а о почвах, их образовании, строении, составе и свойствах; о закономерностях их географического распространения; о процессах взаимосвязи с внешней средой, определяющих формирование и развитие главнейшего свойства почв – плодородия; о путях рационального использования почв в сельском и народном хозяйстве и об изменении почвенного покрова в агрикультурных условиях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848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воведение является широкой естественно научной дисциплиной.</a:t>
            </a:r>
            <a:r>
              <a:rPr b="0" lang="ru-RU" sz="3200" spc="-1" strike="noStrike">
                <a:solidFill>
                  <a:srgbClr val="45855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79280" y="3429000"/>
            <a:ext cx="4464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даментальные н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зика, химия, 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1547640" y="2492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жные н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 flipH="1">
            <a:off x="2626920" y="2997360"/>
            <a:ext cx="1368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4932360" y="2997360"/>
            <a:ext cx="1511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788000" y="3562200"/>
            <a:ext cx="43560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ественные, сельскохозяйственные и экономические нау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ология, геология, агрохимия, земледел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ажные разделы почвовед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е о формировании и развитии (генезисе) поч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е о почвенном покров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е о плодородии поч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ка почв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имия почв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иология поч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ография поч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грономическое, лесное, мелиоративное почвоведение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ассификация поч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етоды исследования в почвоведени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равнительно-географический мет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равнительно-аналитический мет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ационарный мет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етод моделирования почвенных процессов и режим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офильные мето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Изучение почвенного профил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Изучение почвенного профиля"/>
          <p:cNvPicPr/>
          <p:nvPr/>
        </p:nvPicPr>
        <p:blipFill>
          <a:blip r:embed="rId1"/>
          <a:stretch/>
        </p:blipFill>
        <p:spPr>
          <a:xfrm>
            <a:off x="395280" y="4076640"/>
            <a:ext cx="223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новоположник почвоведения В.В.Докучаев (1846-1903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В. В. Докучаев"/>
          <p:cNvPicPr/>
          <p:nvPr/>
        </p:nvPicPr>
        <p:blipFill>
          <a:blip r:embed="rId1"/>
          <a:stretch/>
        </p:blipFill>
        <p:spPr>
          <a:xfrm>
            <a:off x="395280" y="1484280"/>
            <a:ext cx="2016000" cy="273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http://www.soilmuseum.narod.ru/images/dokuch.jpg"/>
          <p:cNvPicPr/>
          <p:nvPr/>
        </p:nvPicPr>
        <p:blipFill>
          <a:blip r:embed="rId2"/>
          <a:stretch/>
        </p:blipFill>
        <p:spPr>
          <a:xfrm>
            <a:off x="3635280" y="2565360"/>
            <a:ext cx="1905120" cy="242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www.soilmuseum.narod.ru/images/dokuchaev.jpg"/>
          <p:cNvPicPr/>
          <p:nvPr/>
        </p:nvPicPr>
        <p:blipFill>
          <a:blip r:embed="rId3"/>
          <a:stretch/>
        </p:blipFill>
        <p:spPr>
          <a:xfrm>
            <a:off x="6659640" y="1268280"/>
            <a:ext cx="1904760" cy="2428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826920" y="522936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воей монографи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Русский чернозём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8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он впервые рассматривает почву как самостоятельное природное тело, формирующееся под воздействием 5 факторов: живых организмов, свойств породы, рельефа, климата и времени развития. 1883 год считается временем возникновения почвоведения как на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учный вклад Докучаева В.В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первые предложил естественноисторический метод бонитировки почв, имеющий важное значение в современных приёмах качественной оценки земель и земельного кадастр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ал научную классификацию почв, основанную на генетическом принципе (1886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книге "Наши степи прежде и теперь" (1892) изложил план борьбы с засухой, поразившей чернозёмную полосу России в 1891, который предусматривал комплекс мер воздействия на всю природу степной зон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ние о широтных (горизонтальных) и вертикальных "естественноисторических зонах" составило главное содержание русской научной школы в физической географии. Выделены семь мировых зон (бореальная, северная лесная, лесостепная, степная, сухих степей, аэральная зона пустынь, субтропическая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здал учение об эволюции почв, понимая при этом почвообразовательные процессы "как вечно изменяющиеся функции" природных фактор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Ученые - почвовед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стычев П.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основы агрономического почвоведени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бирцев Н.М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 заведующий первой кафедры ген. Почвоведения, написал первый учебник по почвоведению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ссович П.С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основоположник химических, физических свойств почв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едройц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.К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Учение о поглотительной способности поч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ильям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Р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основы биологического направления в почвоведени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4:56:07Z</dcterms:created>
  <dc:creator>Админ</dc:creator>
  <dc:description/>
  <dc:language>en-US</dc:language>
  <cp:lastModifiedBy>Женис Бахытбекович</cp:lastModifiedBy>
  <dcterms:modified xsi:type="dcterms:W3CDTF">2013-12-04T11:22:09Z</dcterms:modified>
  <cp:revision>5</cp:revision>
  <dc:subject/>
  <dc:title>Предмет, основные методы и разделы почвоведения.  Общая схема       почвообразовательного    процесса</dc:title>
</cp:coreProperties>
</file>